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94551-D689-47E5-8012-4057D4B02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A0AC0-03C8-420D-A735-ECC873462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10FFE-CD5E-41CB-AA08-9448BE097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62EF1-929F-43D6-8FEC-E29B467E9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6E8AC2-4AAD-4BB9-A5D9-C8D81B4AF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96733-808D-4093-A2F0-7222379C5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A392B-A696-46F4-A6AA-CD376711A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53D7D-A0F3-406E-B4F9-E938F33E1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DF69C-0AA7-4279-8FFF-AA6AA2256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41768-F19A-4A08-BCA2-FF4C7B487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2C60B-E02A-448E-99DE-7884DD9A4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8002-1484-4F79-B39F-E00D36B1E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5221F-B76E-47A1-A496-47A64A8BB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2A1B5-0F60-4300-9C05-676E918EF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413BC-FA48-4283-98D9-5C7781B9B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48EE9-F2E4-4DE4-BB3D-4A7B5B37A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8125F-72D9-4DDA-828F-994FC5B9E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875B2-F988-4005-A1B2-09DDC93A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E625-9996-4888-A668-820FA7D4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DC9D1-F4C1-41AE-8F14-C4F3C03E7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8D2ED-4618-4C07-AEF7-11B808A99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E78E8-8812-4054-99C7-D681DEAD5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26A7-E5D7-4D4D-8860-54EBE0041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1E19-D53F-407E-A11A-8F6E1B7CD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flipV="1">
            <a:off x="460440" y="182844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A436-89A5-4328-8D86-BD506D7EDF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7"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5985-46C2-429C-ACE3-2393265FDC8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flipV="1">
            <a:off x="316080" y="326520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Now, knowing PLORNT, write a 1-3 sentence definition of sci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20,670.90</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Final zeroes after a decimal point are significan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 zero between two significant numbers is significan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ll the zeroes that are left are NOT signific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416</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a:t>
            </a:r>
            <a:endParaRPr b="0" lang="en-US" sz="3200" spc="-1" strike="noStrike">
              <a:solidFill>
                <a:srgbClr val="000000"/>
              </a:solidFill>
              <a:latin typeface="Arial"/>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0416</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1: Underline all non-zeroe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2: Underline all zeroes trailing at the end after a decimal poi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3: Underline all zeroes in between other underlined number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le 4: Cross out anything that’s l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sig figs?</a:t>
            </a:r>
            <a:endParaRPr b="0" lang="en-US" sz="28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416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8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up with 15 significant figures problems, at least five must include rounding.  You must know the answers to them.</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problems on a fresh sheet of paper.  When you’re done, give your “sig fig quiz” to another group to solve.</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their answers when they’re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fun with Sig Figs!</a:t>
            </a:r>
            <a:endParaRPr b="0" lang="en-US" sz="4400" spc="-1" strike="noStrike">
              <a:solidFill>
                <a:srgbClr val="333399"/>
              </a:solidFill>
              <a:latin typeface="Arial"/>
            </a:endParaRPr>
          </a:p>
        </p:txBody>
      </p:sp>
      <p:sp>
        <p:nvSpPr>
          <p:cNvPr id="131"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somebody measured the </a:t>
            </a:r>
            <a:r>
              <a:rPr b="0" i="1" lang="en-US" sz="3200" spc="-1" strike="noStrike">
                <a:solidFill>
                  <a:srgbClr val="000000"/>
                </a:solidFill>
                <a:latin typeface="Arial"/>
              </a:rPr>
              <a:t>area</a:t>
            </a:r>
            <a:r>
              <a:rPr b="0" lang="en-US" sz="3200" spc="-1" strike="noStrike">
                <a:solidFill>
                  <a:srgbClr val="000000"/>
                </a:solidFill>
                <a:latin typeface="Arial"/>
              </a:rPr>
              <a:t> of an aye-aye ear like this?</a:t>
            </a:r>
            <a:endParaRPr b="0" lang="en-US" sz="3200" spc="-1" strike="noStrike">
              <a:solidFill>
                <a:srgbClr val="000000"/>
              </a:solidFill>
              <a:latin typeface="Arial"/>
            </a:endParaRPr>
          </a:p>
        </p:txBody>
      </p:sp>
      <p:pic>
        <p:nvPicPr>
          <p:cNvPr id="132" name="" descr=""/>
          <p:cNvPicPr/>
          <p:nvPr/>
        </p:nvPicPr>
        <p:blipFill>
          <a:blip r:embed="rId1"/>
          <a:stretch/>
        </p:blipFill>
        <p:spPr>
          <a:xfrm>
            <a:off x="2133720" y="3048120"/>
            <a:ext cx="4775040" cy="3597120"/>
          </a:xfrm>
          <a:prstGeom prst="rect">
            <a:avLst/>
          </a:prstGeom>
          <a:ln w="0">
            <a:noFill/>
          </a:ln>
        </p:spPr>
      </p:pic>
      <p:pic>
        <p:nvPicPr>
          <p:cNvPr id="133" name="" descr=""/>
          <p:cNvPicPr/>
          <p:nvPr/>
        </p:nvPicPr>
        <p:blipFill>
          <a:blip r:embed="rId2"/>
          <a:stretch/>
        </p:blipFill>
        <p:spPr>
          <a:xfrm>
            <a:off x="2666880" y="3352680"/>
            <a:ext cx="6275520" cy="639720"/>
          </a:xfrm>
          <a:prstGeom prst="rect">
            <a:avLst/>
          </a:prstGeom>
          <a:ln w="0">
            <a:noFill/>
          </a:ln>
        </p:spPr>
      </p:pic>
      <p:pic>
        <p:nvPicPr>
          <p:cNvPr id="134" name="" descr=""/>
          <p:cNvPicPr/>
          <p:nvPr/>
        </p:nvPicPr>
        <p:blipFill>
          <a:blip r:embed="rId3"/>
          <a:stretch/>
        </p:blipFill>
        <p:spPr>
          <a:xfrm rot="5400000">
            <a:off x="-786240" y="6881760"/>
            <a:ext cx="628812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fun with Sig Figs!</a:t>
            </a:r>
            <a:endParaRPr b="0" lang="en-US" sz="4400" spc="-1" strike="noStrike">
              <a:solidFill>
                <a:srgbClr val="333399"/>
              </a:solidFill>
              <a:latin typeface="Arial"/>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ain is no stronger than its weakest link.  One bad measurement makes your result bad.  </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en you add or subtract, you can never get more decimal places than the number that had the LEAST.</a:t>
            </a:r>
            <a:endParaRPr b="0" lang="en-US" sz="2800" spc="-1" strike="noStrike">
              <a:solidFill>
                <a:srgbClr val="000000"/>
              </a:solidFill>
              <a:latin typeface="Arial"/>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hen you multiply or divide, you can never get more sig figs than the WORST of the numbers that you us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RE fun with Sig Figs!</a:t>
            </a:r>
            <a:endParaRPr b="0" lang="en-US" sz="4400" spc="-1" strike="noStrike">
              <a:solidFill>
                <a:srgbClr val="333399"/>
              </a:solidFill>
              <a:latin typeface="Arial"/>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sig figs can each of these answers ha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 x 673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 x 248,200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800 / 0.00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the problem’s answer has too many sig figs or places past the decimal?  You must round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20 x 673.  We said that the answer must have just one sig fig.  Here’s how to ge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o the operation normally first.  What is 20 x 6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Homework</a:t>
            </a:r>
            <a:endParaRPr b="0" lang="en-US" sz="4400" spc="-1" strike="noStrike">
              <a:solidFill>
                <a:srgbClr val="333399"/>
              </a:solidFill>
              <a:latin typeface="Arial"/>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those lab safety contracts and student info sheets, fol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out those agendas: Worksheet will be due on Fri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o the operation normally first.       20 x 673 = 13,460 .</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unt off the number of sig figs that you need, starting from the leftmost significant dig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Do the operation normally first.       20 x 673 = 13,460 .</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unt off the number of sig figs that you need, starting from the leftmost significant digit.</a:t>
            </a:r>
            <a:endParaRPr b="0" lang="en-US" sz="3200" spc="-1" strike="noStrike">
              <a:solidFill>
                <a:srgbClr val="000000"/>
              </a:solidFill>
              <a:latin typeface="Arial"/>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last digit that you count to must be rounded, the rest that you counted past will stay the s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adding and subtrac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7 + 927.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ounding Sig Figs</a:t>
            </a:r>
            <a:endParaRPr b="0" lang="en-US" sz="4400" spc="-1" strike="noStrike">
              <a:solidFill>
                <a:srgbClr val="333399"/>
              </a:solidFill>
              <a:latin typeface="Arial"/>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7 + 927.3 = 932.17, but the rule is, the answer cannot have more numbers past the decimal place than the original number that had the l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52" name="PlaceHolder 2"/>
          <p:cNvSpPr>
            <a:spLocks noGrp="1"/>
          </p:cNvSpPr>
          <p:nvPr>
            <p:ph/>
          </p:nvPr>
        </p:nvSpPr>
        <p:spPr>
          <a:xfrm>
            <a:off x="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ese problem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 81</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0.4 - 0.08</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483 + 94,78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3 x 6.085 x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 Figs Practice</a:t>
            </a:r>
            <a:endParaRPr b="0" lang="en-US" sz="4400" spc="-1" strike="noStrike">
              <a:solidFill>
                <a:srgbClr val="333399"/>
              </a:solidFill>
              <a:latin typeface="Arial"/>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before, design a “quiz” for another team.</a:t>
            </a:r>
            <a:endParaRPr b="0" lang="en-US" sz="3200" spc="-1" strike="noStrike">
              <a:solidFill>
                <a:srgbClr val="000000"/>
              </a:solidFill>
              <a:latin typeface="Arial"/>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questions.</a:t>
            </a:r>
            <a:endParaRPr b="0" lang="en-US" sz="28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questions, present a single number and ask how many sig figs it has.</a:t>
            </a:r>
            <a:endParaRPr b="0" lang="en-US" sz="2400" spc="-1" strike="noStrike">
              <a:solidFill>
                <a:srgbClr val="000000"/>
              </a:solidFill>
              <a:latin typeface="Arial"/>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 questions, use multiplication, addition,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IS science?</a:t>
            </a:r>
            <a:endParaRPr b="0" lang="en-US" sz="4400" spc="-1" strike="noStrike">
              <a:solidFill>
                <a:srgbClr val="333399"/>
              </a:solidFill>
              <a:latin typeface="Arial"/>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s vast and complicated, but here’s one way of summing it up that I think is pretty darn good.</a:t>
            </a:r>
            <a:endParaRPr b="0" lang="en-US" sz="2800" spc="-1" strike="noStrike">
              <a:solidFill>
                <a:srgbClr val="000000"/>
              </a:solidFill>
              <a:latin typeface="Arial"/>
            </a:endParaRPr>
          </a:p>
          <a:p>
            <a:pPr lvl="1" marL="713160" indent="-27432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ience is both a body of knowledge about the natural world, and the process by which human beings develop that knowledge.  Natural explanations of natural phenomena are developed by rigorously and empirically testing them, and these explanations are always based upon reasoned consideration of observable evidence, are always tentative, and are always constructed by community consens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books out!  Title this section of your notes “Significant Figures.”</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ndout can be confusing, we’ll simplify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ideas:</a:t>
            </a:r>
            <a:endParaRPr b="0" lang="en-US" sz="28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need to know how strong their measurements are.  We use “significant figures” to show that strength.</a:t>
            </a:r>
            <a:endParaRPr b="0" lang="en-US" sz="24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significant figures a number has, the stronger the measurement it was.</a:t>
            </a:r>
            <a:endParaRPr b="0" lang="en-US" sz="24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better measurement tools gives you numbers with more sig figs.</a:t>
            </a:r>
            <a:endParaRPr b="0" lang="en-US" sz="2400" spc="-1" strike="noStrike">
              <a:solidFill>
                <a:srgbClr val="000000"/>
              </a:solidFill>
              <a:latin typeface="Arial"/>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rules for figuring out how many sig figs there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you want to measure this guy from eartip to eartip.</a:t>
            </a:r>
            <a:endParaRPr b="0" lang="en-US" sz="3200" spc="-1" strike="noStrike">
              <a:solidFill>
                <a:srgbClr val="000000"/>
              </a:solidFill>
              <a:latin typeface="Arial"/>
            </a:endParaRPr>
          </a:p>
        </p:txBody>
      </p:sp>
      <p:pic>
        <p:nvPicPr>
          <p:cNvPr id="110" name="" descr=""/>
          <p:cNvPicPr/>
          <p:nvPr/>
        </p:nvPicPr>
        <p:blipFill>
          <a:blip r:embed="rId1"/>
          <a:stretch/>
        </p:blipFill>
        <p:spPr>
          <a:xfrm>
            <a:off x="2133720" y="3048120"/>
            <a:ext cx="4775040" cy="3597120"/>
          </a:xfrm>
          <a:prstGeom prst="rect">
            <a:avLst/>
          </a:prstGeom>
          <a:ln w="0">
            <a:noFill/>
          </a:ln>
        </p:spPr>
      </p:pic>
      <p:pic>
        <p:nvPicPr>
          <p:cNvPr id="111" name="" descr=""/>
          <p:cNvPicPr/>
          <p:nvPr/>
        </p:nvPicPr>
        <p:blipFill>
          <a:blip r:embed="rId2"/>
          <a:stretch/>
        </p:blipFill>
        <p:spPr>
          <a:xfrm>
            <a:off x="2666880" y="3352680"/>
            <a:ext cx="6275520" cy="63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y you want to measure this guy from eartip to eartip.</a:t>
            </a:r>
            <a:endParaRPr b="0" lang="en-US" sz="3200" spc="-1" strike="noStrike">
              <a:solidFill>
                <a:srgbClr val="000000"/>
              </a:solidFill>
              <a:latin typeface="Arial"/>
            </a:endParaRPr>
          </a:p>
        </p:txBody>
      </p:sp>
      <p:pic>
        <p:nvPicPr>
          <p:cNvPr id="114" name="" descr=""/>
          <p:cNvPicPr/>
          <p:nvPr/>
        </p:nvPicPr>
        <p:blipFill>
          <a:blip r:embed="rId1"/>
          <a:stretch/>
        </p:blipFill>
        <p:spPr>
          <a:xfrm>
            <a:off x="2133720" y="3048120"/>
            <a:ext cx="4775040" cy="3597120"/>
          </a:xfrm>
          <a:prstGeom prst="rect">
            <a:avLst/>
          </a:prstGeom>
          <a:ln w="0">
            <a:noFill/>
          </a:ln>
        </p:spPr>
      </p:pic>
      <p:pic>
        <p:nvPicPr>
          <p:cNvPr id="115" name="" descr=""/>
          <p:cNvPicPr/>
          <p:nvPr/>
        </p:nvPicPr>
        <p:blipFill>
          <a:blip r:embed="rId2"/>
          <a:stretch/>
        </p:blipFill>
        <p:spPr>
          <a:xfrm>
            <a:off x="2666880" y="3352680"/>
            <a:ext cx="6288120" cy="60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hen you take a measurement, you can estimate one extra digit beyond the ones on the instrument, but no more than one.</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tter ruler gave us a more precise measur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Significant Figures</a:t>
            </a:r>
            <a:endParaRPr b="0" lang="en-US" sz="4400" spc="-1" strike="noStrike">
              <a:solidFill>
                <a:srgbClr val="333399"/>
              </a:solidFill>
              <a:latin typeface="Arial"/>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ules!  When you figure out sig figs, always follow these rules in this order.  Let’s practice on this number: 020,670.9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ll digits NOT zero are always significant fig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6T21:09:11Z</dcterms:created>
  <dc:creator>Rebecca Stang</dc:creator>
  <dc:description/>
  <dc:language>en-US</dc:language>
  <cp:lastModifiedBy>Rebecca Stang</cp:lastModifiedBy>
  <dcterms:modified xsi:type="dcterms:W3CDTF">2008-09-07T13:39:11Z</dcterms:modified>
  <cp:revision>37</cp:revision>
  <dc:subject/>
  <dc:title>Significant Figures</dc:title>
</cp:coreProperties>
</file>